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421C-0567-44D7-BE68-F57B54B4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5F7E-9720-4726-A4F7-F9C863C1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0F40-3800-4610-B7E7-4888029B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F115-4430-4EBE-9186-6DA0FE44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5977-7C0A-4C5C-9B59-CF69A47D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B5F5-96C1-4C15-89B8-E1E1D8C4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043B-285B-4F62-B4F5-4436907E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FA53-679E-49A0-8A9B-A0BAB447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90EC-E1F5-4972-A7EA-A7789F89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2D73-E104-48EB-B3D9-1455D2D8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9CDA-8A62-4A4E-B209-C9D52F18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6AB3-7303-40C2-8C7E-77E58E7E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2D3F-F3EB-490F-9CC0-D1E5179C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C5EB-FBB9-4C9D-BBF2-4A8F47A2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C475-8EB9-4B2B-920C-61FD8FE0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C2DA-3E4A-4730-BAA9-8D92977E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4B76-23FB-4F71-8CFB-61FABF4F4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A478-B4F4-4BDA-80E9-B6BEDA2F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0758-19A2-4157-939A-1A4B6E44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8427-567D-4069-BF89-DD1ECAFA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4465-1DB6-4D3C-9721-8612B6EB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A342-AF11-495C-A676-9944AA62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EDBF-9F77-4925-90DB-8F1CB034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4DA6-EDE3-4CAB-A39E-0F027A53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3754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360" y="6244920"/>
            <a:ext cx="597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irishmathssupport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supportcentre.maths.nuim.ie/mathsnetwork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19A4-6605-40B9-9F38-167E553CFBE6}" type="slidenum"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" descr=""/>
          <p:cNvPicPr/>
          <p:nvPr/>
        </p:nvPicPr>
        <p:blipFill>
          <a:blip r:embed="rId2"/>
          <a:stretch/>
        </p:blipFill>
        <p:spPr>
          <a:xfrm>
            <a:off x="6588000" y="5877000"/>
            <a:ext cx="2195640" cy="78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2556000" y="333360"/>
            <a:ext cx="3779640" cy="1531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99"/>
                </a:solidFill>
                <a:latin typeface="Times New Roman"/>
              </a:rPr>
              <a:t>irishmathssupport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http://supportcentre.maths.nuim.ie/mathsnetwork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ait.ie/pass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2852640"/>
            <a:ext cx="87138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Tutor Training Workshop 3:</a:t>
            </a:r>
            <a:br>
              <a:rPr sz="4400"/>
            </a:br>
            <a:br>
              <a:rPr sz="4400"/>
            </a:b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 Working with Students:</a:t>
            </a:r>
            <a:br>
              <a:rPr sz="4400"/>
            </a:b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Explaining, Listening, Questioning Ski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Exercise On Listening Ski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9680" y="1714680"/>
            <a:ext cx="7986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Equation of a lin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Pairs-  one student one tutor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Think of explaining and listening!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928880" y="4643280"/>
            <a:ext cx="5857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Arial"/>
              </a:rPr>
              <a:t>Note to facilitator: Done using Appendix 1 materia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Questioning Ski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3883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Questioning, which refers to both </a:t>
            </a:r>
            <a:r>
              <a:rPr b="1" lang="en-IE" sz="3200" spc="-1" strike="noStrike">
                <a:solidFill>
                  <a:srgbClr val="333399"/>
                </a:solidFill>
                <a:latin typeface="Arial"/>
              </a:rPr>
              <a:t>asking </a:t>
            </a: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and </a:t>
            </a:r>
            <a:r>
              <a:rPr b="1" lang="en-IE" sz="3200" spc="-1" strike="noStrike">
                <a:solidFill>
                  <a:srgbClr val="333399"/>
                </a:solidFill>
                <a:latin typeface="Arial"/>
              </a:rPr>
              <a:t>answering</a:t>
            </a: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 questions, is another important tutoring activity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Tutors ask questions to </a:t>
            </a:r>
            <a:r>
              <a:rPr b="1" lang="en-IE" sz="3200" spc="-1" strike="noStrike">
                <a:solidFill>
                  <a:srgbClr val="333399"/>
                </a:solidFill>
                <a:latin typeface="Arial"/>
              </a:rPr>
              <a:t>introduce</a:t>
            </a: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 topics and to </a:t>
            </a:r>
            <a:r>
              <a:rPr b="1" lang="en-IE" sz="3200" spc="-1" strike="noStrike">
                <a:solidFill>
                  <a:srgbClr val="333399"/>
                </a:solidFill>
                <a:latin typeface="Arial"/>
              </a:rPr>
              <a:t>guide</a:t>
            </a: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IE" sz="3200" spc="-1" strike="noStrike">
                <a:solidFill>
                  <a:srgbClr val="333399"/>
                </a:solidFill>
                <a:latin typeface="Arial"/>
              </a:rPr>
              <a:t>assess</a:t>
            </a: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 students thinking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Similarly, tutors must respond to student requests for information or clarification and to students’ expressed confusion.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Question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840" y="1428480"/>
            <a:ext cx="82706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Tutors may use a variety of question types such as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333399"/>
                </a:solidFill>
                <a:uFillTx/>
                <a:latin typeface="Arial"/>
              </a:rPr>
              <a:t>Review</a:t>
            </a: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 questions to introduce topics and activate prior knowledge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333399"/>
                </a:solidFill>
                <a:uFillTx/>
                <a:latin typeface="Arial"/>
              </a:rPr>
              <a:t>Comprehension</a:t>
            </a: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 questions to assess student understanding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To provide </a:t>
            </a:r>
            <a:r>
              <a:rPr b="1" lang="en-IE" sz="2400" spc="-1" strike="noStrike" u="sng">
                <a:solidFill>
                  <a:srgbClr val="333399"/>
                </a:solidFill>
                <a:uFillTx/>
                <a:latin typeface="Arial"/>
              </a:rPr>
              <a:t>subtle hints</a:t>
            </a: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 such as asking “What about the numerator?” instead of simply telling the student that the answer is incomplete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Stimulate </a:t>
            </a:r>
            <a:r>
              <a:rPr b="1" lang="en-IE" sz="2400" spc="-1" strike="noStrike" u="sng">
                <a:solidFill>
                  <a:srgbClr val="333399"/>
                </a:solidFill>
                <a:uFillTx/>
                <a:latin typeface="Arial"/>
              </a:rPr>
              <a:t>deeper reasoning</a:t>
            </a: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 by asking questions about underlying principles or hypothetical situations (e.g. What would happen if the denominator was zero?”)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Question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8400" y="1643040"/>
            <a:ext cx="812772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Tutors’ questions are different from the information-seeking that are the usual focus of student questioning.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Student questioning generally follows a pattern in which the student recognizes a contradiction, a lack of information, or otherwise experiences a gap in understanding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Questioning is most beneficial when students ask deeper questions that require integration of new and prior knowledge as opposed to yes/no verification questions.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Always encourage students to ask questions.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Question typ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9680" y="1357200"/>
            <a:ext cx="82710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Asking and re-directing questi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(see additional handout for examples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333399"/>
                </a:solidFill>
                <a:uFillTx/>
                <a:latin typeface="Arial"/>
              </a:rPr>
              <a:t>Redirecting </a:t>
            </a: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questions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333399"/>
                </a:solidFill>
                <a:uFillTx/>
                <a:latin typeface="Arial"/>
              </a:rPr>
              <a:t>Open-ended </a:t>
            </a: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 questions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333399"/>
                </a:solidFill>
                <a:uFillTx/>
                <a:latin typeface="Arial"/>
              </a:rPr>
              <a:t>Socratic (guiding)</a:t>
            </a: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 questions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333399"/>
                </a:solidFill>
                <a:uFillTx/>
                <a:latin typeface="Arial"/>
              </a:rPr>
              <a:t>Probing </a:t>
            </a: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questions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333399"/>
                </a:solidFill>
                <a:uFillTx/>
                <a:latin typeface="Arial"/>
              </a:rPr>
              <a:t>Clarification </a:t>
            </a: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questions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Questions </a:t>
            </a:r>
            <a:r>
              <a:rPr b="1" lang="en-IE" sz="2400" spc="-1" strike="noStrike" u="sng">
                <a:solidFill>
                  <a:srgbClr val="333399"/>
                </a:solidFill>
                <a:uFillTx/>
                <a:latin typeface="Arial"/>
              </a:rPr>
              <a:t>to improve critical awareness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Questions </a:t>
            </a:r>
            <a:r>
              <a:rPr b="1" lang="en-IE" sz="2400" spc="-1" strike="noStrike" u="sng">
                <a:solidFill>
                  <a:srgbClr val="333399"/>
                </a:solidFill>
                <a:uFillTx/>
                <a:latin typeface="Arial"/>
              </a:rPr>
              <a:t>which encourage students to re-focus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333399"/>
                </a:solidFill>
                <a:uFillTx/>
                <a:latin typeface="Arial"/>
              </a:rPr>
              <a:t>Taking stock</a:t>
            </a: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 quest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Questioning Skills Exercis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98660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Simultaneous Equati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Pairs-  one student one tutor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Think of questioning!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500120" y="4429080"/>
            <a:ext cx="5857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333399"/>
                </a:solidFill>
                <a:latin typeface="Arial"/>
              </a:rPr>
              <a:t>Note to facilitator: Done using Appendix 2  materia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Questioning recap </a:t>
            </a:r>
            <a:br>
              <a:rPr sz="4400"/>
            </a:b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– tutor aspect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5010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Tutors should construct questions to help students to think deeply about material, not just the processes involved.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To generate integration and reasoning questions, tutors may have to reflect upon the fundamental ideas,  relationships, and principles needed to produce a correct answer.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Discussion Examples of the key ideas in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solving equations, working with fractions, using formula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Important to note that tutors knowledge may contain gaps and misconceptions because of having imperfectly learning the material.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Working with the Stud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42960" y="1428480"/>
            <a:ext cx="77724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Greeting the student in a positive way  is crucial particularly when they are seeking MLS for the first time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Say hello, smile and make eye contact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Introduce yourself and ask them their nam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Sit down situation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One-on-one tuition or small group work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Try not to undermine the lecturer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Working with the Stud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57160" y="150012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Showing your not perfec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It is ok for students to see that you are not ‘the font of all ‘mathematical knowledge so don’t ‘waffle’ if you don’t know the answe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Maths is a proces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Try to encourage students to attempt a few things and not leave the page and to see that doing a maths problem is a process. In fact  if they can see that </a:t>
            </a:r>
            <a:r>
              <a:rPr b="1" lang="en-IE" sz="2000" spc="-1" strike="noStrike">
                <a:solidFill>
                  <a:srgbClr val="333399"/>
                </a:solidFill>
                <a:latin typeface="Arial"/>
              </a:rPr>
              <a:t>Mistakes </a:t>
            </a: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can be used as simply things that have to be </a:t>
            </a:r>
            <a:r>
              <a:rPr b="1" lang="en-IE" sz="2000" spc="-1" strike="noStrike">
                <a:solidFill>
                  <a:srgbClr val="333399"/>
                </a:solidFill>
                <a:latin typeface="Arial"/>
              </a:rPr>
              <a:t>turned into retakes </a:t>
            </a: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the students will be well on the road to having the confidence to work mathematically on their ow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Working with the Stud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42960" y="1285920"/>
            <a:ext cx="81691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Allow them to ask you questions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Don’t be afraid of silence!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Leave them work on their own if that is what they want – they will approach you if they have any difficulties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Have patience and understanding – what appears ‘easy’ to you may not be the case for them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Be friendly, approachable and non-confrontational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 u="sng">
                <a:solidFill>
                  <a:srgbClr val="333399"/>
                </a:solidFill>
                <a:uFillTx/>
                <a:latin typeface="Arial"/>
              </a:rPr>
              <a:t>As a maths tutor your role includes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Providing one to few instruction in maths for another student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Students may also work together in small groups to solve maths problem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Expected to use your maths knowledge to teach key concepts and guide students towards correct solutions and understanding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Working with the Stud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2560" y="1357200"/>
            <a:ext cx="860436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Don’t pressure them – encourage a good work ethic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Use praise – build the student’s self-confidence. However only praise correct work/thinking, don’t encourage bad practices. </a:t>
            </a:r>
            <a:r>
              <a:rPr b="1" lang="en-IE" sz="2800" spc="-1" strike="noStrike">
                <a:solidFill>
                  <a:srgbClr val="333399"/>
                </a:solidFill>
                <a:latin typeface="Arial"/>
              </a:rPr>
              <a:t>PRAISE the EFFORT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If unsure of the material ask another tutor, consult resources or tell the student that you will find out for the following week. Don’t give the student the wrong information.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Some Positive Tutor Strateg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4240" y="1285560"/>
            <a:ext cx="77724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Know students by name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Ask questions for discussion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Pick up and follow student response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Closure on student questions.( “ Are you happy to move on? “, “Will we move on?”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Reward good thinking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Use simple language and concept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Find out what the student does and does not understand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Some Positive Tutor Strateg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Pass understanding, not quantity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Localise problem area</a:t>
            </a: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.(Eg. “ I don’t get equations” – narrow it down by questioning and go for </a:t>
            </a:r>
            <a:r>
              <a:rPr b="0" i="1" lang="en-IE" sz="2000" spc="-1" strike="noStrike">
                <a:solidFill>
                  <a:srgbClr val="333399"/>
                </a:solidFill>
                <a:latin typeface="Arial"/>
              </a:rPr>
              <a:t>small successes</a:t>
            </a:r>
            <a:r>
              <a:rPr b="0" lang="en-IE" sz="2000" spc="-1" strike="noStrike">
                <a:solidFill>
                  <a:srgbClr val="333399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Establish an environment where the student feels comfortable to ask questions and look for help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Use explanation as opposed to telling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Praise students for what they have done.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Know the MLS Resources in Pl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Location of Maths suppor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Are Maths textbooks available in the centre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Positive Outcomes for Yo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8400" y="1500120"/>
            <a:ext cx="83437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As well as being paid..........................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New challenge for you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Enhances career prospects – prospective employers see work helping others as a desirable attribute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Training provided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Personal development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Enhances Patience &amp; perseverance!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468360" y="624528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99"/>
                </a:solidFill>
                <a:latin typeface="Arial"/>
              </a:rPr>
              <a:t>irishmathssupport@gmail.com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ttp://supportcentre.maths.nuim.ie/mathsnetwork/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149976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Ciaran O’Sullivan: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President Volunteer Programme training materials for </a:t>
            </a: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IT Tallaght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Peer Assisted Student Support (PASS) project: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it.ie/pass/</a:t>
            </a: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  for Listening and Questioning skills handou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Dr. Máire Ní Ríordáin President Volunteer Programme training materials for UL and the NCMEST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2600" y="499680"/>
            <a:ext cx="77929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Workshop Main poi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11280" y="1557000"/>
            <a:ext cx="77724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Teaching vs. Tell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Explain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Key Skills in Explain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Question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Question types for 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Review, comprehension, subtle hints, deeper reasoning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Working with the Studen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Some Positive Tutor Strateg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Teaching vs. Telling </a:t>
            </a: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7120" y="1214280"/>
            <a:ext cx="853272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3200" spc="-1" strike="noStrike" u="sng">
                <a:solidFill>
                  <a:srgbClr val="333399"/>
                </a:solidFill>
                <a:uFillTx/>
                <a:latin typeface="Arial"/>
              </a:rPr>
              <a:t>Developing</a:t>
            </a: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 knowledge as opposed to </a:t>
            </a:r>
            <a:r>
              <a:rPr b="1" i="1" lang="en-IE" sz="3200" spc="-1" strike="noStrike" u="sng">
                <a:solidFill>
                  <a:srgbClr val="333399"/>
                </a:solidFill>
                <a:uFillTx/>
                <a:latin typeface="Arial"/>
              </a:rPr>
              <a:t>delivering</a:t>
            </a: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 it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Assessing gaps in learner’s knowledge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Involves skills such as </a:t>
            </a:r>
            <a:r>
              <a:rPr b="1" lang="en-IE" sz="3200" spc="-1" strike="noStrike">
                <a:solidFill>
                  <a:srgbClr val="333399"/>
                </a:solidFill>
                <a:latin typeface="Arial"/>
              </a:rPr>
              <a:t>explaining, questioning, assessment</a:t>
            </a: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IE" sz="3200" spc="-1" strike="noStrike">
                <a:solidFill>
                  <a:srgbClr val="333399"/>
                </a:solidFill>
                <a:latin typeface="Arial"/>
              </a:rPr>
              <a:t>feedback.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Use &amp; apply your subject matter knowledge &amp; transform this knowledge in creative ways to teach the student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9680" y="142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Explaining</a:t>
            </a: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13880" y="1285560"/>
            <a:ext cx="8055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Explanations are statements that convey information with the goal of making some ideas clear and comprehensible and are one of the primary ways in which tutors teach their student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Don’t be afraid to </a:t>
            </a:r>
            <a:r>
              <a:rPr b="1" lang="en-IE" sz="2800" spc="-1" strike="noStrike">
                <a:solidFill>
                  <a:srgbClr val="333399"/>
                </a:solidFill>
                <a:latin typeface="Arial"/>
              </a:rPr>
              <a:t>PAUSE </a:t>
            </a: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to allow time to think about the best way to explain before starting the explanation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Use verbal explanations to communicate key ideas, principles, and relationships and to correct student mistakes and misconception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Always have rough work paper to hand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Explaining</a:t>
            </a: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1680" y="135684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Explanations may involve a variety of elements such as summarizing main ideas, examples, analogies, and so on, and can be used to share known information (e.g. a formula) or make sense of new information (e.g. interpreting the results)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5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3399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Tutors and students may also interact over successive turns to gradually develop students’ knowledge and explanation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Iterate through ‘mind sized bites’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Key Skills in Explain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320" y="1428480"/>
            <a:ext cx="7986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When explaining, tutors must transform their prior knowledge into instructive messages that are relevant, coherent, complete, and accurate.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This takes time and much practice to develop!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Your explanations must make sense and be logical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Don’t be afraid of silence PAUSE to think before explaining and also don’t jump into help a student with their answer too quickly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Alignment of Explan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0040" y="121392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In the first instance try to align your way of explaining of a particular techniques with the way students have been shown in lectur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Then it may be necessary/advantageous to offer different approach to the same technique to aid student understanding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Listening Ski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356840"/>
            <a:ext cx="7986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Ideally tutor is trying to </a:t>
            </a:r>
            <a:r>
              <a:rPr b="1" lang="en-IE" sz="2800" spc="-1" strike="noStrike">
                <a:solidFill>
                  <a:srgbClr val="333399"/>
                </a:solidFill>
                <a:latin typeface="Arial"/>
              </a:rPr>
              <a:t>scaffold the learning </a:t>
            </a: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for the student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Active listening is key to this (see listening handout sheet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Good technique is to use a </a:t>
            </a:r>
            <a:r>
              <a:rPr b="0" i="1" lang="en-IE" sz="2800" spc="-1" strike="noStrike">
                <a:solidFill>
                  <a:srgbClr val="333399"/>
                </a:solidFill>
                <a:latin typeface="Arial"/>
              </a:rPr>
              <a:t>talk aloud protocol</a:t>
            </a: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-  </a:t>
            </a: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the student does the problem with a spoken explanation of what they are doing so that you can gain some insight into how the student is thinking and processing the problem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33399"/>
                </a:solidFill>
                <a:latin typeface="Arial"/>
              </a:rPr>
              <a:t>Ideally want to become the ‘guide on the side’ rather than the ‘sage on the stage’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09:32:15Z</dcterms:created>
  <dc:creator>DCU</dc:creator>
  <dc:description/>
  <dc:language>en-US</dc:language>
  <cp:lastModifiedBy>Family O'Sullivan</cp:lastModifiedBy>
  <dcterms:modified xsi:type="dcterms:W3CDTF">2020-07-17T15:22:01Z</dcterms:modified>
  <cp:revision>44</cp:revision>
  <dc:subject/>
  <dc:title>Slide 1</dc:title>
</cp:coreProperties>
</file>