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7D8-AB12-400D-B781-D3DFC542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05F-F86D-4EC7-ADA1-902E084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B04-B0A7-4823-9553-AEB1F7BC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CD9-37A2-49D2-8F7B-6F1B03E4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6825-17BB-4FA1-AFF7-9AFB11B4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2D14-DFE1-4DC9-BABE-AF3661BD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8300-D92A-4783-B943-E02F5C2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12DC-00AB-411A-9EE9-307DEE2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F78E-3E26-4613-8B70-97D196D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62A1-473B-440D-BDC6-715BEAA8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A17-0885-46F3-8E05-54F39AE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27B-7675-4DBF-BE25-F20D062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B08-D1FC-4F6D-91BC-7F40BEC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897C-05A5-4680-879D-6F36DB0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6E88-38F4-4E41-845C-C4729640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FFAD-E665-4C7F-989A-3312A506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0C7F-48C5-46C7-AA46-AF5BDA67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80D-9E8C-466C-8A83-DA18464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CD8-1FF5-4627-B15D-430B3E1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4D0-2FEF-4D67-8FE3-AA7C16C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440-2278-4DBC-8B19-AEBB6A6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859-0707-4C30-9684-08F30A3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8CA-7D90-4630-967D-7962AF5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BF1-19C7-4D9F-89D7-F33F709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7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244920"/>
            <a:ext cx="597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rishmathssupport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upportcentre.maths.nuim.ie/mathsnetwork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105E-442A-4972-8553-BB2FEAF209D8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6588000" y="5877000"/>
            <a:ext cx="219564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3779640" cy="153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Times New Roman"/>
              </a:rPr>
              <a:t>irishmathssupport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http://supportcentre.maths.nuim.ie/mathsnetwork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20" y="3068640"/>
            <a:ext cx="8713800" cy="20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Training Workshop 4:</a:t>
            </a: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IE" sz="4400" spc="-1" strike="noStrike" u="sng">
                <a:solidFill>
                  <a:srgbClr val="333399"/>
                </a:solidFill>
                <a:uFillTx/>
                <a:latin typeface="Arial"/>
              </a:rPr>
              <a:t>Developing as a tutor</a:t>
            </a: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he Dos/ Don’ts  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following reports on the responses to a survey from 21 Mathematics Learning Support (MLS) tutors from 10 Higher Educational Institutes in Ireland and Northern Ireland. The survey requested them to provide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number of years they have worked in M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A brief description of the services provided at their MLS cent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mathematical abilities of the students they encounter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5 most important things that tutors should do for/with students who are seeking help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5 most important things that tutors should not do for/with students who are seeking help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- Profil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333399"/>
                </a:solidFill>
                <a:latin typeface="Arial"/>
              </a:rPr>
              <a:t>Tutor Experie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average number of years that tutors worked in MLS centres was 3.45 years, with an average of 7.14 hours per week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333399"/>
                </a:solidFill>
                <a:latin typeface="Arial"/>
              </a:rPr>
              <a:t>Services Provided by Maths Learning Suppor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primary services offered by the support centres surveyed were drop-in centres, extra tutorials/workshops, online learning resources, and 1-1 appointment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Abilities of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844640"/>
          <a:ext cx="6750000" cy="2778120"/>
        </p:xfrm>
        <a:graphic>
          <a:graphicData uri="http://schemas.openxmlformats.org/drawingml/2006/table">
            <a:tbl>
              <a:tblPr/>
              <a:tblGrid>
                <a:gridCol w="4662360"/>
                <a:gridCol w="208764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 of ability reported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urveys in which this was reported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maths (algebra, factorising etc.)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 ability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ionists (know content but need to refine their understanding)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onfidence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7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Abilities of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Chart 4" descr=""/>
          <p:cNvPicPr/>
          <p:nvPr/>
        </p:nvPicPr>
        <p:blipFill>
          <a:blip r:embed="rId2"/>
          <a:stretch/>
        </p:blipFill>
        <p:spPr>
          <a:xfrm>
            <a:off x="1762200" y="1914480"/>
            <a:ext cx="628488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Do’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55640" y="1557360"/>
          <a:ext cx="7704000" cy="4248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425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’s” for tutors reported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imes each were reported 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erism/empathy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5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students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students do the work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5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the problem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for understanding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CT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 techniques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4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 other tutors for help if unfamilia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 concepts in simple terms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4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Do’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8" name="Chart 4" descr=""/>
          <p:cNvPicPr/>
          <p:nvPr/>
        </p:nvPicPr>
        <p:blipFill>
          <a:blip r:embed="rId2"/>
          <a:stretch/>
        </p:blipFill>
        <p:spPr>
          <a:xfrm>
            <a:off x="1542960" y="1768320"/>
            <a:ext cx="6040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Don’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773360"/>
          <a:ext cx="7345440" cy="381636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i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s” for tutors reported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imes each were reported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2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ise lecturer/staff/student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give an answer/do all the work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2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dismissive (e.g. say it's easy)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e prior knowledge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directly with assessment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ff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. w/o explanation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2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 much time with an individual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 without diagnosis 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Survey – Don’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4" name="Content Placeholder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Findings from tutor observ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>
                <a:solidFill>
                  <a:srgbClr val="333399"/>
                </a:solidFill>
                <a:uFillTx/>
                <a:latin typeface="Arial"/>
              </a:rPr>
              <a:t>Contex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he Mathematics Learning Centre at UL conducted observations of some tutors in the Spring of 2015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ome tutors were visited and were advised to try to develop some aspects of their teach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 follow-up session was conducted 4 weeks later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Initial visit - Feedbac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Content Placeholder 4" descr=""/>
          <p:cNvPicPr/>
          <p:nvPr/>
        </p:nvPicPr>
        <p:blipFill>
          <a:blip r:embed="rId1"/>
          <a:stretch/>
        </p:blipFill>
        <p:spPr>
          <a:xfrm>
            <a:off x="317520" y="1170000"/>
            <a:ext cx="8461440" cy="5353200"/>
          </a:xfrm>
          <a:prstGeom prst="rect">
            <a:avLst/>
          </a:prstGeom>
          <a:ln w="0">
            <a:noFill/>
          </a:ln>
        </p:spPr>
      </p:pic>
      <p:sp>
        <p:nvSpPr>
          <p:cNvPr id="140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Overview of Worksho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tudent views of M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dvice from experienced tutor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IE" sz="2800" spc="-1" strike="noStrike">
                <a:solidFill>
                  <a:srgbClr val="333399"/>
                </a:solidFill>
                <a:latin typeface="Arial"/>
              </a:rPr>
              <a:t>Dos and Don’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eveloping as a tutor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reflection and a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Follow-up visit: Feedbac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Content Placeholder 4" descr=""/>
          <p:cNvPicPr/>
          <p:nvPr/>
        </p:nvPicPr>
        <p:blipFill>
          <a:blip r:embed="rId1"/>
          <a:stretch/>
        </p:blipFill>
        <p:spPr>
          <a:xfrm>
            <a:off x="384120" y="1085760"/>
            <a:ext cx="8321760" cy="5211720"/>
          </a:xfrm>
          <a:prstGeom prst="rect">
            <a:avLst/>
          </a:prstGeom>
          <a:ln w="0">
            <a:noFill/>
          </a:ln>
        </p:spPr>
      </p:pic>
      <p:sp>
        <p:nvSpPr>
          <p:cNvPr id="143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Common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ome common issues amongst each tutor that was observed wer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Blackboard needed to be organised (tutors advised to split board vertically into 4 or 5 part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Assumptions made about students knowledge (i.e. skipping many lines of work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Relied heavily at times on very theoretical explanations despite students not being mathematics specialist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DID NOT GET STUDENTS TO TRY PROBLEM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final one above (in caps.) was considered to be the most important piece of advice. Mathematics is not a spectator sport. Students must be allowed to try problems and succeed/not succeed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Developing as a tutor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Good tutors are always learn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One way to do this is to reflect briefly on each session you do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ools for reflect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ee Tools for Reflection document and next slid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Developing as a tutor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98064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ools for reflect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333399"/>
                </a:solidFill>
                <a:latin typeface="Arial"/>
              </a:rPr>
              <a:t>Mathematics  Learning Tutor Reflection Ent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Diary Ent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Competencies Li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333399"/>
                </a:solidFill>
                <a:latin typeface="Arial"/>
              </a:rPr>
              <a:t>Prompt Ques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How was the session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What have I learned from these reflections?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What is the one thought to carry forward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Give example of a listening skill used and its effec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Give example of a questioning skill used and its effec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8760" y="1356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Ciaran O’Sullivan: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sident Volunteer Programme  training materials for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T Tallagh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MLSN: Evaluation of MLS Survey (2011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Student views of MLS from IMLSN Surve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rge scale survey conducted by the IMLSN in the 201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urvey was carried out in 9 HEIs, </a:t>
            </a: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(5 universities and 4 institutes of technology - DCU, NUIG, NUIM, UCD, UL, IT Blanchardstown, IT Carlow, IT Tallaght, IT Tralee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633 first year students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tudying at least one service-mathematics module surveye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87 students of the 1633 availed of ML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tudents were asked to 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e on a list of MLS services which were provided in their institution on a scale of 1 to 5: 1 = Not at all Worthwhile and 5 = Extremely Worthwhi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How do you rate the Drop-in Centre?( N = 519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Content Placeholder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w do you rate the ICT enabled supports ?(N= 268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333399"/>
                </a:solidFill>
                <a:latin typeface="Arial"/>
              </a:rPr>
              <a:t>How do you rate the Topical or Revision Workshops ?( N= 232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Content Placeholder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How do you rate the support tutorials?</a:t>
            </a:r>
            <a:br>
              <a:rPr sz="3200"/>
            </a:b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(N = 101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Students comments (see word document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ble 1: Student comments/suggestions regarding the Drop-In Centre servi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Table 2: Comments relating to ICT enabled suppor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Table 3: Student comments/suggestions regarding Workshop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ble 4: Student comments/suggestions regarding Support Tutori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Advice from experienced tutors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333399"/>
                </a:solidFill>
                <a:latin typeface="Arial"/>
              </a:rPr>
              <a:t>Dos and Don’ts list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333399"/>
                </a:solidFill>
                <a:latin typeface="Arial"/>
              </a:rPr>
              <a:t>See document of advice from an experienced MLS tuto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nything to add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32:15Z</dcterms:created>
  <dc:creator>DCU</dc:creator>
  <dc:description/>
  <dc:language>en-US</dc:language>
  <cp:lastModifiedBy>Olivia.Fitzmaurice</cp:lastModifiedBy>
  <dcterms:modified xsi:type="dcterms:W3CDTF">2015-07-31T13:27:07Z</dcterms:modified>
  <cp:revision>58</cp:revision>
  <dc:subject/>
  <dc:title>Slide 1</dc:title>
</cp:coreProperties>
</file>